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1"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7"/>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24"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5" name="PlaceHolder 5"/>
          <p:cNvSpPr>
            <a:spLocks noGrp="1"/>
          </p:cNvSpPr>
          <p:nvPr>
            <p:ph type="ftr" idx="28"/>
          </p:nvPr>
        </p:nvSpPr>
        <p:spPr>
          <a:xfrm>
            <a:off x="0" y="8816760"/>
            <a:ext cx="30290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526" name="PlaceHolder 6"/>
          <p:cNvSpPr>
            <a:spLocks noGrp="1"/>
          </p:cNvSpPr>
          <p:nvPr>
            <p:ph type="sldNum" idx="29"/>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82FE-8D0E-4562-839F-598BD9A40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71DE-0A1A-4281-9B10-848A1CACA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76480" y="696960"/>
            <a:ext cx="4638600" cy="3479760"/>
          </a:xfrm>
          <a:prstGeom prst="rect">
            <a:avLst/>
          </a:prstGeom>
          <a:ln w="0">
            <a:noFill/>
          </a:ln>
        </p:spPr>
      </p:sp>
      <p:sp>
        <p:nvSpPr>
          <p:cNvPr id="71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6480" y="696960"/>
            <a:ext cx="4638600" cy="3479760"/>
          </a:xfrm>
          <a:prstGeom prst="rect">
            <a:avLst/>
          </a:prstGeom>
          <a:ln w="0">
            <a:noFill/>
          </a:ln>
        </p:spPr>
      </p:sp>
      <p:sp>
        <p:nvSpPr>
          <p:cNvPr id="7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B858-3B07-446B-962D-F28D86CE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A880-AF2E-425B-BFA1-E12E5395E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6617-6B56-48CB-AB77-FD14338D9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Objects: Usually operating or current expendi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current operating? Or some sub-set excluding items like transportation, foo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venues, just state and local, or from all sources, local, state and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ovement to class size, numbers and quality of teachers, actual class size (i.e., not pupil-staf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the Group: Students, taxpayers, teachers, par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 equity analyzed within a public finance, tax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equity for students --Equal spending plus adjustments for nee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ing not-linked to local “wealth,” i.e., property value per pupil, i.e., fis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76480" y="696960"/>
            <a:ext cx="4638600" cy="3479760"/>
          </a:xfrm>
          <a:prstGeom prst="rect">
            <a:avLst/>
          </a:prstGeom>
          <a:ln w="0">
            <a:noFill/>
          </a:ln>
        </p:spPr>
      </p:sp>
      <p:sp>
        <p:nvSpPr>
          <p:cNvPr id="7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8A65-9B47-44AA-970B-042999BD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7ED0-BA71-464A-97CE-E44014B2D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76480" y="696960"/>
            <a:ext cx="4638600" cy="3479760"/>
          </a:xfrm>
          <a:prstGeom prst="rect">
            <a:avLst/>
          </a:prstGeom>
          <a:ln w="0">
            <a:noFill/>
          </a:ln>
        </p:spPr>
      </p:sp>
      <p:sp>
        <p:nvSpPr>
          <p:cNvPr id="7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2556-BE9E-4F44-9148-ACA47E6F1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76480" y="696960"/>
            <a:ext cx="4638600" cy="3479760"/>
          </a:xfrm>
          <a:prstGeom prst="rect">
            <a:avLst/>
          </a:prstGeom>
          <a:ln w="0">
            <a:noFill/>
          </a:ln>
        </p:spPr>
      </p:sp>
      <p:sp>
        <p:nvSpPr>
          <p:cNvPr id="7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F055-24D3-4515-B0E4-C040D0539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D544-4130-4044-9345-72D9CBCF6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76480" y="696960"/>
            <a:ext cx="4638600" cy="3479760"/>
          </a:xfrm>
          <a:prstGeom prst="rect">
            <a:avLst/>
          </a:prstGeom>
          <a:ln w="0">
            <a:noFill/>
          </a:ln>
        </p:spPr>
      </p:sp>
      <p:sp>
        <p:nvSpPr>
          <p:cNvPr id="7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06B6-8692-4DFA-9531-A21803D9D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76480" y="696960"/>
            <a:ext cx="4638600" cy="3479760"/>
          </a:xfrm>
          <a:prstGeom prst="rect">
            <a:avLst/>
          </a:prstGeom>
          <a:ln w="0">
            <a:noFill/>
          </a:ln>
        </p:spPr>
      </p:sp>
      <p:sp>
        <p:nvSpPr>
          <p:cNvPr id="7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C23B-F276-4324-9107-0DAC69CF5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38600" cy="3479760"/>
          </a:xfrm>
          <a:prstGeom prst="rect">
            <a:avLst/>
          </a:prstGeom>
          <a:ln w="0">
            <a:noFill/>
          </a:ln>
        </p:spPr>
      </p:sp>
      <p:sp>
        <p:nvSpPr>
          <p:cNvPr id="7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77DD-B4C8-4F25-A6D0-75C1B06ED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79EF-83D9-46E1-A245-CB514B723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76480" y="696960"/>
            <a:ext cx="4638600" cy="3479760"/>
          </a:xfrm>
          <a:prstGeom prst="rect">
            <a:avLst/>
          </a:prstGeom>
          <a:ln w="0">
            <a:noFill/>
          </a:ln>
        </p:spPr>
      </p:sp>
      <p:sp>
        <p:nvSpPr>
          <p:cNvPr id="79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3508-8AF1-494F-B888-171DF22E1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76480" y="696960"/>
            <a:ext cx="4638600" cy="3479760"/>
          </a:xfrm>
          <a:prstGeom prst="rect">
            <a:avLst/>
          </a:prstGeom>
          <a:ln w="0">
            <a:noFill/>
          </a:ln>
        </p:spPr>
      </p:sp>
      <p:sp>
        <p:nvSpPr>
          <p:cNvPr id="79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D975-396F-4E84-B01D-DD533F502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E707-E995-419F-9F89-128C4C2A0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76480" y="696960"/>
            <a:ext cx="4638600" cy="3479760"/>
          </a:xfrm>
          <a:prstGeom prst="rect">
            <a:avLst/>
          </a:prstGeom>
          <a:ln w="0">
            <a:noFill/>
          </a:ln>
        </p:spPr>
      </p:sp>
      <p:sp>
        <p:nvSpPr>
          <p:cNvPr id="80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E2B9-D89B-4F08-AB50-0FCF5E545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6480" y="696960"/>
            <a:ext cx="4638600" cy="3479760"/>
          </a:xfrm>
          <a:prstGeom prst="rect">
            <a:avLst/>
          </a:prstGeom>
          <a:ln w="0">
            <a:noFill/>
          </a:ln>
        </p:spPr>
      </p:sp>
      <p:sp>
        <p:nvSpPr>
          <p:cNvPr id="80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C893-8694-4A23-AEDD-B18D2A587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1C6-9CCD-4AEE-AC6F-191B80747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76480" y="696960"/>
            <a:ext cx="4638600" cy="3479760"/>
          </a:xfrm>
          <a:prstGeom prst="rect">
            <a:avLst/>
          </a:prstGeom>
          <a:ln w="0">
            <a:noFill/>
          </a:ln>
        </p:spPr>
      </p:sp>
      <p:sp>
        <p:nvSpPr>
          <p:cNvPr id="8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8007-B271-4169-8210-A9B60CAAE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76480" y="696960"/>
            <a:ext cx="4638600" cy="3479760"/>
          </a:xfrm>
          <a:prstGeom prst="rect">
            <a:avLst/>
          </a:prstGeom>
          <a:ln w="0">
            <a:noFill/>
          </a:ln>
        </p:spPr>
      </p:sp>
      <p:sp>
        <p:nvSpPr>
          <p:cNvPr id="8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D0D7-9032-4800-A281-8AE8AC77C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A638-BB93-46A7-8509-510C0FEF0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38600" cy="3479760"/>
          </a:xfrm>
          <a:prstGeom prst="rect">
            <a:avLst/>
          </a:prstGeom>
          <a:ln w="0">
            <a:noFill/>
          </a:ln>
        </p:spPr>
      </p:sp>
      <p:sp>
        <p:nvSpPr>
          <p:cNvPr id="7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5521-7AE4-4025-AADA-FA15D4197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6480" y="696960"/>
            <a:ext cx="4638600" cy="3479760"/>
          </a:xfrm>
          <a:prstGeom prst="rect">
            <a:avLst/>
          </a:prstGeom>
          <a:ln w="0">
            <a:noFill/>
          </a:ln>
        </p:spPr>
      </p:sp>
      <p:sp>
        <p:nvSpPr>
          <p:cNvPr id="8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BECB-A70D-49B5-BEB1-96FA0D889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6480" y="696960"/>
            <a:ext cx="4638600" cy="3479760"/>
          </a:xfrm>
          <a:prstGeom prst="rect">
            <a:avLst/>
          </a:prstGeom>
          <a:ln w="0">
            <a:noFill/>
          </a:ln>
        </p:spPr>
      </p:sp>
      <p:sp>
        <p:nvSpPr>
          <p:cNvPr id="8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CBFB-1F28-4116-AB75-E81D6C0DE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B5B2-32C6-4B82-B6CD-6BD111D3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6480" y="696960"/>
            <a:ext cx="4638600" cy="3479760"/>
          </a:xfrm>
          <a:prstGeom prst="rect">
            <a:avLst/>
          </a:prstGeom>
          <a:ln w="0">
            <a:noFill/>
          </a:ln>
        </p:spPr>
      </p:sp>
      <p:sp>
        <p:nvSpPr>
          <p:cNvPr id="8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FC2A-D248-48E2-8303-5852A39EE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76480" y="696960"/>
            <a:ext cx="4638600" cy="3479760"/>
          </a:xfrm>
          <a:prstGeom prst="rect">
            <a:avLst/>
          </a:prstGeom>
          <a:ln w="0">
            <a:noFill/>
          </a:ln>
        </p:spPr>
      </p:sp>
      <p:sp>
        <p:nvSpPr>
          <p:cNvPr id="8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CA37-1076-466D-A02F-9A3A50C67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5AC6-4C21-40F1-8E1F-9012EE94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6480" y="696960"/>
            <a:ext cx="4638600" cy="3479760"/>
          </a:xfrm>
          <a:prstGeom prst="rect">
            <a:avLst/>
          </a:prstGeom>
          <a:ln w="0">
            <a:noFill/>
          </a:ln>
        </p:spPr>
      </p:sp>
      <p:sp>
        <p:nvSpPr>
          <p:cNvPr id="8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94E3-1FEC-4013-9865-C8C32365E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76480" y="696960"/>
            <a:ext cx="4638600" cy="3479760"/>
          </a:xfrm>
          <a:prstGeom prst="rect">
            <a:avLst/>
          </a:prstGeom>
          <a:ln w="0">
            <a:noFill/>
          </a:ln>
        </p:spPr>
      </p:sp>
      <p:sp>
        <p:nvSpPr>
          <p:cNvPr id="85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636E-11F7-41C1-9B99-B794151AC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76480" y="696960"/>
            <a:ext cx="4638600" cy="3479760"/>
          </a:xfrm>
          <a:prstGeom prst="rect">
            <a:avLst/>
          </a:prstGeom>
          <a:ln w="0">
            <a:noFill/>
          </a:ln>
        </p:spPr>
      </p:sp>
      <p:sp>
        <p:nvSpPr>
          <p:cNvPr id="8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7D8E-A8FD-4FD7-B120-B83000BD6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76480" y="696960"/>
            <a:ext cx="4638600" cy="3479760"/>
          </a:xfrm>
          <a:prstGeom prst="rect">
            <a:avLst/>
          </a:prstGeom>
          <a:ln w="0">
            <a:noFill/>
          </a:ln>
        </p:spPr>
      </p:sp>
      <p:sp>
        <p:nvSpPr>
          <p:cNvPr id="8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62FD-C6F0-4274-B4AF-FDE466442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76480" y="696960"/>
            <a:ext cx="4638600" cy="3479760"/>
          </a:xfrm>
          <a:prstGeom prst="rect">
            <a:avLst/>
          </a:prstGeom>
          <a:ln w="0">
            <a:noFill/>
          </a:ln>
        </p:spPr>
      </p:sp>
      <p:sp>
        <p:nvSpPr>
          <p:cNvPr id="7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C8A9-6AA1-4356-B61A-EFA4CDFAA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76480" y="696960"/>
            <a:ext cx="4638600" cy="3479760"/>
          </a:xfrm>
          <a:prstGeom prst="rect">
            <a:avLst/>
          </a:prstGeom>
          <a:ln w="0">
            <a:noFill/>
          </a:ln>
        </p:spPr>
      </p:sp>
      <p:sp>
        <p:nvSpPr>
          <p:cNvPr id="8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6978-F389-45A8-BF67-A08010BC9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76480" y="696960"/>
            <a:ext cx="4638600" cy="3479760"/>
          </a:xfrm>
          <a:prstGeom prst="rect">
            <a:avLst/>
          </a:prstGeom>
          <a:ln w="0">
            <a:noFill/>
          </a:ln>
        </p:spPr>
      </p:sp>
      <p:sp>
        <p:nvSpPr>
          <p:cNvPr id="8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0754-9124-42D7-AACC-091053A75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76480" y="696960"/>
            <a:ext cx="4638600" cy="3479760"/>
          </a:xfrm>
          <a:prstGeom prst="rect">
            <a:avLst/>
          </a:prstGeom>
          <a:ln w="0">
            <a:noFill/>
          </a:ln>
        </p:spPr>
      </p:sp>
      <p:sp>
        <p:nvSpPr>
          <p:cNvPr id="8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1201-0FCA-416B-9F8C-53670A73A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76480" y="696960"/>
            <a:ext cx="4638600" cy="3479760"/>
          </a:xfrm>
          <a:prstGeom prst="rect">
            <a:avLst/>
          </a:prstGeom>
          <a:ln w="0">
            <a:noFill/>
          </a:ln>
        </p:spPr>
      </p:sp>
      <p:sp>
        <p:nvSpPr>
          <p:cNvPr id="8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58BE-069A-414F-A0A2-9D9697B21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76480" y="696960"/>
            <a:ext cx="4638600" cy="3479760"/>
          </a:xfrm>
          <a:prstGeom prst="rect">
            <a:avLst/>
          </a:prstGeom>
          <a:ln w="0">
            <a:noFill/>
          </a:ln>
        </p:spPr>
      </p:sp>
      <p:sp>
        <p:nvSpPr>
          <p:cNvPr id="8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E0BB-F460-4EBE-9323-01106CE57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76480" y="696960"/>
            <a:ext cx="4638600" cy="3479760"/>
          </a:xfrm>
          <a:prstGeom prst="rect">
            <a:avLst/>
          </a:prstGeom>
          <a:ln w="0">
            <a:noFill/>
          </a:ln>
        </p:spPr>
      </p:sp>
      <p:sp>
        <p:nvSpPr>
          <p:cNvPr id="8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5AD-A5A1-4648-9E21-01E5A1324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76480" y="696960"/>
            <a:ext cx="4638600" cy="3479760"/>
          </a:xfrm>
          <a:prstGeom prst="rect">
            <a:avLst/>
          </a:prstGeom>
          <a:ln w="0">
            <a:noFill/>
          </a:ln>
        </p:spPr>
      </p:sp>
      <p:sp>
        <p:nvSpPr>
          <p:cNvPr id="7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C450-9287-4C48-BB99-14F4D1BBB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76480" y="696960"/>
            <a:ext cx="4638600" cy="3479760"/>
          </a:xfrm>
          <a:prstGeom prst="rect">
            <a:avLst/>
          </a:prstGeom>
          <a:ln w="0">
            <a:noFill/>
          </a:ln>
        </p:spPr>
      </p:sp>
      <p:sp>
        <p:nvSpPr>
          <p:cNvPr id="7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5E2B-4022-47D1-BCD3-414106B7F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76480" y="696960"/>
            <a:ext cx="4638600" cy="3479760"/>
          </a:xfrm>
          <a:prstGeom prst="rect">
            <a:avLst/>
          </a:prstGeom>
          <a:ln w="0">
            <a:noFill/>
          </a:ln>
        </p:spPr>
      </p:sp>
      <p:sp>
        <p:nvSpPr>
          <p:cNvPr id="7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D75A-690A-4D14-A847-0AFDF4FAF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89C3-5271-4254-9902-92BDCAC8B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6480" y="696960"/>
            <a:ext cx="4638600" cy="3479760"/>
          </a:xfrm>
          <a:prstGeom prst="rect">
            <a:avLst/>
          </a:prstGeom>
          <a:ln w="0">
            <a:noFill/>
          </a:ln>
        </p:spPr>
      </p:sp>
      <p:sp>
        <p:nvSpPr>
          <p:cNvPr id="7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BC67-0CB4-43B6-88FC-EE3BFCF39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2273D-2CE4-492E-8B62-6168DBD7BA7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93D6A2D-C928-403D-A952-1C56022F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912EB2CB-5BCB-460C-B143-5780302BC1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8"/>
          </p:nvPr>
        </p:nvSpPr>
        <p:spPr/>
        <p:txBody>
          <a:bodyPr/>
          <a:p>
            <a:fld id="{E713D62A-220A-4E22-BD4E-21CCD53AA5C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C5544AE5-AD95-4D9F-A12B-1756AE9159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6D473F48-261C-4C51-95B8-3959E64B2E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D069CAB5-5CBC-45FC-A787-4A64BA63C1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EFD4BDD8-3A16-45BB-AA0A-5422CDC2C2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53434436-5D9F-4A5E-B9E2-D4A1D429B62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28A03987-2FE6-4E8F-96B1-5B84BAB8C3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525C87B8-CD5C-48A8-AED9-E6707DEF601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349744D-C234-44DA-AD95-8FB8989A71E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19F6D30-6EE4-48BC-854F-37FD7817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2F4FA9DC-1381-4103-B0FD-58A031284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9CE2E1B4-5E7C-445E-8E40-2553B0954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4E455F9B-77CF-418B-A40E-4305157CC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0"/>
          </p:nvPr>
        </p:nvSpPr>
        <p:spPr/>
        <p:txBody>
          <a:bodyPr/>
          <a:p>
            <a:fld id="{7DC6C4D4-7E25-4287-A066-067279472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2D6FAC15-8597-46DC-A8A7-AE4D9C57E2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942F478B-0C32-4445-BFD6-3E28F3A528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FFEB483E-0C48-47CB-BB50-880F37DD0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D6DDD6F2-03D2-471E-8BE3-2BA2D0C12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C08B536-A11C-4BC3-9A04-4D480B411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794574EA-9D4E-47A5-8DCB-0E285EF99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C552EFC-D693-4745-80F9-F5C4964548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09C8AF0B-6064-4E9B-99DB-D4F7E5695EB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8D54769-5CDB-45A9-A2E2-97D70CC3833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4425D122-D19C-4D1D-851D-9A0DDD6022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61BF2C89-4362-4667-9385-B126188556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BDFBD2B9-C147-4972-BD30-DA7F37664D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2"/>
          </p:nvPr>
        </p:nvSpPr>
        <p:spPr/>
        <p:txBody>
          <a:bodyPr/>
          <a:p>
            <a:fld id="{1EB9AE23-008B-41FD-9E2B-5E8CAEA6008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99866E26-3165-44D9-B137-771288FFB20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7C6BD8C-2220-4AFF-B0E6-CAAD7EF18A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694ACE7-39AA-424F-A1CB-E2ABFFD572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CD7895CC-38EB-4064-B4A2-81A8A873E1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F80243-FD52-4B09-A07C-C667A9C5F0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9A3BA53-B0C6-4D88-86AE-06346B481E8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129B9A58-7ABE-4DB8-B597-682C1708AB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AC1AE698-D057-4336-9BBB-23153637009E}"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0B256C6-A17C-49AA-82D8-29809BD2162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DF950831-EA12-4884-B33A-CE15B1D08CA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CA5AA4C3-CF7D-44BF-AB7F-564EBF1B169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47D340F7-5B2D-49F2-B7BE-14D2E1A65BD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4"/>
          </p:nvPr>
        </p:nvSpPr>
        <p:spPr/>
        <p:txBody>
          <a:bodyPr/>
          <a:p>
            <a:fld id="{327E1D40-4D94-46E8-8019-DA5C05BB7DD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1C524A5A-80AC-4230-AF36-2398F58B633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6D7DAAF6-4E72-42C4-BCA1-46FCAF6AE9C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F666236-FDAC-44E4-BBF1-C2BEB7881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8E267F75-E7FB-4724-B90E-41BA5C1994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AF305F0F-2BA1-477A-BE16-96E8DD0BE9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447192C-1D55-4700-930C-F59C48BD1F8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3AEF58AE-EE4B-4D50-A9CE-338FC1D89F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4892FF48-1E78-4F67-B3EE-7228CD437A1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73AF152-45CA-4606-B034-87AE4163FDB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F73BCF39-5DD9-40C1-A460-15FB5B7A8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10BFB65F-92A3-491C-9129-646C8035A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21E6D6A0-D00E-4B3E-8143-85EB7212D2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6"/>
          </p:nvPr>
        </p:nvSpPr>
        <p:spPr/>
        <p:txBody>
          <a:bodyPr/>
          <a:p>
            <a:fld id="{8548D35F-8FAE-4030-8E60-E15711A63D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E9EC5A2-F706-4B26-B961-BBC9474CF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D0B494FD-5C67-4910-84A4-294463BAAB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CE109136-69BC-403B-8D06-F0FEABED9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5A75500-E112-4391-BE6F-258CC46EC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0842DD0B-5E37-47CB-B346-0287702CA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C6FF238A-EE37-435C-A34C-BFF8EBF456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CB48CF27-43C3-43CC-B733-B5C29620F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FA4F6A58-5F13-47C4-BD01-87700ACEFEAD}"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0322EB0-4156-44AA-A679-1C13DB8E9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4"/>
          </p:nvPr>
        </p:nvSpPr>
        <p:spPr/>
        <p:txBody>
          <a:bodyPr/>
          <a:p>
            <a:fld id="{6C1206DD-392D-4DAC-B70A-941BDD549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523F15B-69E5-4104-BB3A-9DE5D4EFC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B1A8FEC-32EB-4C3A-86BE-6A7A067E9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AEB38B-C572-4FC6-8F79-49D75EF3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F2EB602-774A-4B72-81FE-40EDB264B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161FE28-84A5-4ED3-A6E8-61F01E29F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C60E645-F187-4DA3-B456-435E6FA76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A98BE52-DEB9-4F7C-8F15-6E9301F81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B76E1DA-4656-4E46-ADA2-80F92EF059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DBB530-62FF-48A8-B026-FF68617645A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E261269-8B8E-475F-B150-A0D8668E18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BC8137F-5023-4235-975E-E00F0B94FF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39CC847-D06D-47DA-AFB5-00AADC508E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6"/>
          </p:nvPr>
        </p:nvSpPr>
        <p:spPr/>
        <p:txBody>
          <a:bodyPr/>
          <a:p>
            <a:fld id="{ED6D4548-4F13-4E56-B694-DAA4BA4081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C4F541D-2DD3-44AD-B282-5CF29F56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958F3EF-A48D-44F5-B2DA-4B7F266060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EB6738A-4A0A-481E-9416-BC316A4FC5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0B93CEB-B886-45FA-81F8-F29731020B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6CAB9AA-175E-4CAF-948D-0A395385A5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3011123-9766-479F-9FC3-42B17F2720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7068522-EB63-4C83-B565-C515DE9702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A4AA250-8651-42B1-88D9-4755465ED61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B9D6E20-A90D-41C4-A17B-572BC762EF4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4C0CF2E-8BCC-4A43-8D1B-3AE43AD8F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5DAF591-26D4-4C87-A90D-2806611D7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A57AB50-A226-4E97-BB7B-FBA6E44B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7B1255B-19A7-48DA-9639-A3EAF2CCF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8"/>
          </p:nvPr>
        </p:nvSpPr>
        <p:spPr/>
        <p:txBody>
          <a:bodyPr/>
          <a:p>
            <a:fld id="{F04D3F4B-6BCD-4B96-84CC-0784D042E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0395F56-E1FF-4D6F-8381-861374D9A1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6454C83-BD13-4F01-86DC-4E14EB065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0FB29A3-13CB-4DDD-A25F-E39C2E357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1728324-EED9-4CEC-B774-D3F8420CE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D24C34B-C62B-402C-BC01-76D994408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C7D528F-4F93-4BE6-8012-3F3A15FFA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DB27015-DFAD-48AA-8243-326D8993FAB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FEE1AE-8B6D-46B0-8123-74730AE9632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EB194481-89D3-40DF-98EB-A47E50D83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4D69402-1460-4D85-A11A-88C137BFE0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2497394-BF69-4619-B4FB-D5C0AEE9D5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B7D5ECA-0263-4A0F-9627-506695AF9D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0"/>
          </p:nvPr>
        </p:nvSpPr>
        <p:spPr/>
        <p:txBody>
          <a:bodyPr/>
          <a:p>
            <a:fld id="{7886B22E-A8DE-420D-9B8E-35D70657FB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A658819-ADE1-4A25-A678-4471285624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1551903-B4EE-4150-874F-5B36F928D2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1C0632D-2310-4AD1-AB94-990BE7EBE9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F35BABB-A3A8-4BB6-A683-757ACC75C8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3D2471E-ADA6-4AD1-BD6E-920CA65198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AE0364F-02E5-4DC1-AF94-7051682A92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56FB2C9-0609-4B66-A41F-65E295E08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F7DC845-9F45-4795-9FF6-D0EA1C88C05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5998AE4-B9D5-47D6-B4A6-566BFBB8F44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C4E4103-6DB7-4B66-A548-42400CE6FD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3AB19B3-F9CD-44CF-B40E-0C36D04199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84F9C26-08DB-4942-B04C-2E54B76308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2"/>
          </p:nvPr>
        </p:nvSpPr>
        <p:spPr/>
        <p:txBody>
          <a:bodyPr/>
          <a:p>
            <a:fld id="{3E6ACE2D-E5FE-412C-A48E-2D1740C170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171F17E-EDC7-43B7-9E47-502F72C935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2607ED3-01AA-4E78-B9C1-1788C6076E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548C073-731D-450B-80B1-9BA462BDBF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8F22BB6-E2AA-4CA3-A0EA-4B79F0AF0E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F051EE6-B714-4E64-9684-632CB75B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F0379E2-EC62-47C2-BDB0-829FA7F93E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B7F6F0E-3A99-4A85-B7E4-ADF52B9E38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4D4AAC4-E1BF-44F1-93E6-058F7179F3A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90E17DD-6C60-4335-A0F9-D5D615DC036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8B980AC-E200-4B38-B32B-9FD70E5EC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A41A757-A9C3-4654-A45C-F60A8D81C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978B187-9558-4174-B8FE-9A9CD24D3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4"/>
          </p:nvPr>
        </p:nvSpPr>
        <p:spPr/>
        <p:txBody>
          <a:bodyPr/>
          <a:p>
            <a:fld id="{718DBD19-55AC-4690-8916-67A136BBB6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A86E241-D1D9-4DBA-98B1-0583BF15B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267C114-9886-4B50-A2A3-15740579C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4AAAE78-3662-4622-86AF-FC9538E2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840AAED-C852-478D-BBC2-E7D07F7EE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BA2990B-B2E3-4E9B-9FFA-6D76E9794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91C9F37-6BE9-436A-918E-BF32E30F0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CC7FA044-235C-45A4-9413-0887C986C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92AB0AE-7978-4DDD-9122-0325C24DAE1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A94AFD7-3EAA-425A-AC82-AAFF8A81E80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ECA4502-54EB-47B9-8272-9DB2F88659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263B5493-980C-4A00-B135-3A9E2BC11C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A6A43994-6118-4C20-A8C0-BC7DAF8A68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6"/>
          </p:nvPr>
        </p:nvSpPr>
        <p:spPr/>
        <p:txBody>
          <a:bodyPr/>
          <a:p>
            <a:fld id="{A988AD1D-D701-4143-BC5D-94BFB1E704C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6BE9DB-CF33-445E-BC50-91DB5CC8E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C2A7129-188C-4C19-9826-B1B2A53592C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BE4E2118-0308-4F7F-B610-6B36E6301E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804195A6-DEF2-47EE-AE5E-85CB1EB942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845759F3-5BF5-4D44-B3DE-DA38D3A343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BB60725-F368-473C-A37F-C7935BB8D7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64C3D29A-5308-4DDD-A1BC-1C2B4FF3F5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0DCA079-FEBB-425D-A403-B8B408236AC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1546B62-37EC-49D6-82F5-9A8A5764A4B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D74904C8-67EB-49D9-AFDA-B67B88754CB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9B721B13-3B7B-42A4-AA1C-C7FBC7A27F1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E684-D7FA-44B3-9FB4-672FF12C3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dt" idx="1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4"/>
          <p:cNvSpPr>
            <a:spLocks noGrp="1"/>
          </p:cNvSpPr>
          <p:nvPr>
            <p:ph type="sldNum" idx="2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1F07-99D4-4248-A9D2-28DC3504D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dt" idx="2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4"/>
          <p:cNvSpPr>
            <a:spLocks noGrp="1"/>
          </p:cNvSpPr>
          <p:nvPr>
            <p:ph type="sldNum" idx="2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52FC-E46E-4A09-89FE-792D727A7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dt" idx="2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4"/>
          <p:cNvSpPr>
            <a:spLocks noGrp="1"/>
          </p:cNvSpPr>
          <p:nvPr>
            <p:ph type="sldNum" idx="2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3BD6-F8ED-4590-91AA-E3B6538DB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3"/>
          <p:cNvSpPr>
            <a:spLocks noGrp="1"/>
          </p:cNvSpPr>
          <p:nvPr>
            <p:ph type="dt" idx="2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PlaceHolder 4"/>
          <p:cNvSpPr>
            <a:spLocks noGrp="1"/>
          </p:cNvSpPr>
          <p:nvPr>
            <p:ph type="sldNum" idx="2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0AC-5252-4FB8-8996-EBD2A3E03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2D03-87BF-4A80-BED9-8949A956F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AC66-1242-47C8-AC46-67A2E6013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4"/>
          <p:cNvSpPr>
            <a:spLocks noGrp="1"/>
          </p:cNvSpPr>
          <p:nvPr>
            <p:ph type="sldNum" idx="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8B95-076C-4DC3-B8A6-A47AD0436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dt" idx="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4"/>
          <p:cNvSpPr>
            <a:spLocks noGrp="1"/>
          </p:cNvSpPr>
          <p:nvPr>
            <p:ph type="sldNum" idx="1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265F-DDBB-4F27-A7EC-52ECFFC07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dt" idx="1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4"/>
          <p:cNvSpPr>
            <a:spLocks noGrp="1"/>
          </p:cNvSpPr>
          <p:nvPr>
            <p:ph type="sldNum" idx="1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72A5-1418-417A-ACDB-E7503457A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dt" idx="1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4"/>
          <p:cNvSpPr>
            <a:spLocks noGrp="1"/>
          </p:cNvSpPr>
          <p:nvPr>
            <p:ph type="sldNum" idx="1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BECA-8170-44FC-A750-622D3670B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dt" idx="1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4"/>
          <p:cNvSpPr>
            <a:spLocks noGrp="1"/>
          </p:cNvSpPr>
          <p:nvPr>
            <p:ph type="sldNum" idx="1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4174-323D-428D-944F-6FB4176D8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dt" idx="1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4"/>
          <p:cNvSpPr>
            <a:spLocks noGrp="1"/>
          </p:cNvSpPr>
          <p:nvPr>
            <p:ph type="sldNum" idx="1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9E8A-1BA1-4BF4-BE78-DCF544BDB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4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B73C-3D35-4B3C-82B1-6AE2D4BF3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 Framework for Assessing Equity and Adequacy </a:t>
            </a:r>
            <a:br>
              <a:rPr sz="4800"/>
            </a:br>
            <a:r>
              <a:rPr b="0" lang="en-US" sz="4800" spc="-1" strike="noStrike">
                <a:solidFill>
                  <a:srgbClr val="3333cc"/>
                </a:solidFill>
                <a:latin typeface="Times New Roman"/>
              </a:rPr>
              <a:t>in School Finance </a:t>
            </a:r>
            <a:endParaRPr b="0" lang="en-US" sz="4800" spc="-1" strike="noStrike">
              <a:solidFill>
                <a:srgbClr val="3333cc"/>
              </a:solidFill>
              <a:latin typeface="Times New Roman"/>
            </a:endParaRPr>
          </a:p>
        </p:txBody>
      </p:sp>
      <p:sp>
        <p:nvSpPr>
          <p:cNvPr id="530" name="PlaceHolder 2"/>
          <p:cNvSpPr>
            <a:spLocks noGrp="1"/>
          </p:cNvSpPr>
          <p:nvPr>
            <p:ph/>
          </p:nvPr>
        </p:nvSpPr>
        <p:spPr>
          <a:xfrm>
            <a:off x="685800" y="4191120"/>
            <a:ext cx="7772400" cy="1295280"/>
          </a:xfrm>
          <a:prstGeom prst="rect">
            <a:avLst/>
          </a:prstGeom>
          <a:noFill/>
          <a:ln w="0">
            <a:noFill/>
          </a:ln>
        </p:spPr>
        <p:txBody>
          <a:bodyPr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4FAA-1CDC-400D-919F-5FC39D36E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pil Count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 students enrolled as measured on a day, month, or whatev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 – average daily membership – closer to an enrollment figur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 – average daily attendance – measure of number of students who attend scho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pupil counts – wada or wadm – give extra “weight” to students with special needs who require more help and thus expendi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60F9-887E-4C4D-A1E6-41962EE7A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0"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ante v. ex post analysis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of analysi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13C2-8E08-4A0E-A9D6-50C7A07B3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of interest</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variabl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 process variabl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 curriculum, instructional practic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chievement variables </a:t>
            </a:r>
            <a:endParaRPr b="0" lang="en-US" sz="24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of concern</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payers </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28A4-0CBA-4D83-90E3-E4BEF7089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concept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neutrality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equity</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equ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cy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adequacy also improves equ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11F1-13AD-4E04-9000-B11FD4640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609480" y="609120"/>
            <a:ext cx="784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sp>
        <p:nvSpPr>
          <p:cNvPr id="58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objects (expenditures/revenues per pupil, etc.) cannot be a function of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connection between property wealth per pupil (or family income) and objec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wealth elasticity (slop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is less than or equal to 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80EB-F48D-4578-8FEE-B4890BC9E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o Fiscal Neutrality</a:t>
            </a:r>
            <a:endParaRPr b="0" lang="en-US" sz="4400" spc="-1" strike="noStrike">
              <a:solidFill>
                <a:srgbClr val="3333cc"/>
              </a:solidFill>
              <a:latin typeface="Times New Roman"/>
            </a:endParaRPr>
          </a:p>
        </p:txBody>
      </p:sp>
      <p:graphicFrame>
        <p:nvGraphicFramePr>
          <p:cNvPr id="586" name="Object 5"/>
          <p:cNvGraphicFramePr/>
          <p:nvPr/>
        </p:nvGraphicFramePr>
        <p:xfrm>
          <a:off x="1566720" y="1690560"/>
          <a:ext cx="6434280" cy="4405320"/>
        </p:xfrm>
        <a:graphic>
          <a:graphicData uri="http://schemas.openxmlformats.org/presentationml/2006/ole">
            <p:oleObj progId="Excel.Sheet.12" r:id="rId1" spid="">
              <p:embed/>
              <p:pic>
                <p:nvPicPr>
                  <p:cNvPr id="587" name="Object 5" descr=""/>
                  <p:cNvPicPr/>
                  <p:nvPr/>
                </p:nvPicPr>
                <p:blipFill>
                  <a:blip r:embed="rId2"/>
                  <a:stretch/>
                </p:blipFill>
                <p:spPr>
                  <a:xfrm>
                    <a:off x="1566720" y="1690560"/>
                    <a:ext cx="643428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3B23-89C4-4C7E-996B-31C13C17E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graphicFrame>
        <p:nvGraphicFramePr>
          <p:cNvPr id="591" name="Object 5"/>
          <p:cNvGraphicFramePr/>
          <p:nvPr/>
        </p:nvGraphicFramePr>
        <p:xfrm>
          <a:off x="1563840" y="1981080"/>
          <a:ext cx="6016320" cy="4114800"/>
        </p:xfrm>
        <a:graphic>
          <a:graphicData uri="http://schemas.openxmlformats.org/presentationml/2006/ole">
            <p:oleObj progId="Excel.Sheet.12" r:id="rId1" spid="">
              <p:embed/>
              <p:pic>
                <p:nvPicPr>
                  <p:cNvPr id="592" name="Object 5" descr=""/>
                  <p:cNvPicPr/>
                  <p:nvPr/>
                </p:nvPicPr>
                <p:blipFill>
                  <a:blip r:embed="rId2"/>
                  <a:stretch/>
                </p:blipFill>
                <p:spPr>
                  <a:xfrm>
                    <a:off x="1563840" y="1981080"/>
                    <a:ext cx="60163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0909-3ED5-461A-B45F-30EB729E9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59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Highest minus Lowes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all observation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easures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 not accounted f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EE8B-25BB-4364-A4DB-0809302F4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0"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ed Range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Observation at 95th Percentile and 5th Percentil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avoids problems of Outlier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only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to Range, but Still not Gre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C796-AD56-427A-B6C6-08C2E6F48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ange Rat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95th - 5t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s how much larger the observation at the 95th percentile is than the observation at the 5th percenti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450D-C41D-4C69-B783-305E27593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Defining &amp; Measuring School Finance Equity &amp; Adequacy</a:t>
            </a:r>
            <a:endParaRPr b="0" lang="en-US" sz="4800" spc="-1" strike="noStrike">
              <a:solidFill>
                <a:srgbClr val="3333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 about Public School Revenues, Expenditures and Pupil Counts</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ne &amp; Stiefel’s Updated Equity Framework</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of School Finance Equity and Adequac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Determining School Finance Adequacy</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B1FD-8A74-465A-9370-602274947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V = STD /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amount of variation around the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expressed as a percen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0.1 = 10%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of values within 1 S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of values within 2 S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4E63-00D1-4074-9D30-89EB791F68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graphicFrame>
        <p:nvGraphicFramePr>
          <p:cNvPr id="612" name="Object 5"/>
          <p:cNvGraphicFramePr/>
          <p:nvPr/>
        </p:nvGraphicFramePr>
        <p:xfrm>
          <a:off x="1447920" y="2057400"/>
          <a:ext cx="6026040" cy="3367080"/>
        </p:xfrm>
        <a:graphic>
          <a:graphicData uri="http://schemas.openxmlformats.org/presentationml/2006/ole">
            <p:oleObj progId="Word.Document.12" r:id="rId1" spid="">
              <p:embed/>
              <p:pic>
                <p:nvPicPr>
                  <p:cNvPr id="613" name="Object 5" descr=""/>
                  <p:cNvPicPr/>
                  <p:nvPr/>
                </p:nvPicPr>
                <p:blipFill>
                  <a:blip r:embed="rId2"/>
                  <a:stretch/>
                </p:blipFill>
                <p:spPr>
                  <a:xfrm>
                    <a:off x="1447920" y="2057400"/>
                    <a:ext cx="602604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9EAC-4D9C-4B72-B05D-C804F2DA0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all values in the data se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change with infla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understan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value that determines a fair or equitable distribution? </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 relative or absolute standar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uggest a target goal of 0.1 (absolute standard)</a:t>
            </a:r>
            <a:endParaRPr b="0" lang="en-US" sz="22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D =10% of average</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ample: If average is $7,000:</a:t>
            </a:r>
            <a:endParaRPr b="0" lang="en-US" sz="19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3 of values will be between $6,300 and $7,700</a:t>
            </a:r>
            <a:endParaRPr b="0" lang="en-US" sz="17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5% of values will be between $5,600 and $8,400</a:t>
            </a:r>
            <a:endParaRPr b="0" lang="en-US" sz="1700" spc="-1" strike="noStrike">
              <a:solidFill>
                <a:srgbClr val="000000"/>
              </a:solidFill>
              <a:latin typeface="Times New Roman"/>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7785-8AE6-4684-97BB-4EEEF81F1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sp>
        <p:nvSpPr>
          <p:cNvPr id="62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of Gini:</a:t>
            </a:r>
            <a:endParaRPr b="0" lang="en-US" sz="3300" spc="-1" strike="noStrike">
              <a:solidFill>
                <a:srgbClr val="000000"/>
              </a:solidFill>
              <a:latin typeface="Times New Roman"/>
            </a:endParaRPr>
          </a:p>
          <a:p>
            <a:pPr marL="3394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 / (A+B)</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ranges from 0 to 1</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maller Values Represent Greater Equity </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expenditures are completely equal, A = 0 and the Gini Coefficient becomes 0</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im for 0.5</a:t>
            </a:r>
            <a:endParaRPr b="0" lang="en-US" sz="3300" spc="-1" strike="noStrike">
              <a:solidFill>
                <a:srgbClr val="000000"/>
              </a:solidFill>
              <a:latin typeface="Times New Roman"/>
            </a:endParaRPr>
          </a:p>
          <a:p>
            <a:pPr marL="33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6F01-F06B-4609-82F3-8C23B4300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graphicFrame>
        <p:nvGraphicFramePr>
          <p:cNvPr id="625" name="Object 5"/>
          <p:cNvGraphicFramePr/>
          <p:nvPr/>
        </p:nvGraphicFramePr>
        <p:xfrm>
          <a:off x="1828800" y="2590920"/>
          <a:ext cx="5491080" cy="2698560"/>
        </p:xfrm>
        <a:graphic>
          <a:graphicData uri="http://schemas.openxmlformats.org/presentationml/2006/ole">
            <p:oleObj progId="Word.Document.12" r:id="rId1" spid="">
              <p:embed/>
              <p:pic>
                <p:nvPicPr>
                  <p:cNvPr id="626" name="Object 5" descr=""/>
                  <p:cNvPicPr/>
                  <p:nvPr/>
                </p:nvPicPr>
                <p:blipFill>
                  <a:blip r:embed="rId2"/>
                  <a:stretch/>
                </p:blipFill>
                <p:spPr>
                  <a:xfrm>
                    <a:off x="1828800" y="2590920"/>
                    <a:ext cx="5491080" cy="26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1CDC-6400-4FF0-AF4B-52AB840A4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to School Financ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Equity for the Bottom Part of the Distribution</a:t>
            </a:r>
            <a:endParaRPr b="0" lang="en-US" sz="3200" spc="-1" strike="noStrike">
              <a:solidFill>
                <a:srgbClr val="000000"/>
              </a:solidFill>
              <a:latin typeface="Times New Roman"/>
            </a:endParaRPr>
          </a:p>
          <a:p>
            <a:pPr marL="343080" indent="-343080">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atio of the Sum of the values of all observations below the median to the corresponding sum if all observations had the value of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of 1 means perfect equ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E564-EB75-4FAD-B9AE-3AD4AF52A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eps to calculate</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data by revenu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edian student and the revenues going to that student (Median rev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district with revenues below the median: </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students x District Rev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 ((#students x Median Revs)</a:t>
            </a:r>
            <a:endParaRPr b="0" lang="en-US" sz="2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N &amp; D for each district below the median</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N/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19A9-7E80-46A7-BED9-410E02D0B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erstegen Index</a:t>
            </a:r>
            <a:endParaRPr b="0" lang="en-US" sz="4400" spc="-1" strike="noStrike">
              <a:solidFill>
                <a:srgbClr val="3333cc"/>
              </a:solidFill>
              <a:latin typeface="Times New Roman"/>
            </a:endParaRPr>
          </a:p>
        </p:txBody>
      </p:sp>
      <p:sp>
        <p:nvSpPr>
          <p:cNvPr id="6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e opposite or symmetrical version of McLoon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inequity of the distribution for districts spending above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 measure would be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5A1E-1E2F-4143-A5BD-F68AC7753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533160" y="6091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ertical Equity</a:t>
            </a:r>
            <a:endParaRPr b="0" lang="en-US" sz="4000" spc="-1" strike="noStrike">
              <a:solidFill>
                <a:srgbClr val="3333cc"/>
              </a:solidFill>
              <a:latin typeface="Times New Roman"/>
            </a:endParaRPr>
          </a:p>
        </p:txBody>
      </p:sp>
      <p:sp>
        <p:nvSpPr>
          <p:cNvPr id="642" name="PlaceHolder 2"/>
          <p:cNvSpPr>
            <a:spLocks noGrp="1"/>
          </p:cNvSpPr>
          <p:nvPr>
            <p:ph/>
          </p:nvPr>
        </p:nvSpPr>
        <p:spPr>
          <a:xfrm>
            <a:off x="609120" y="1447560"/>
            <a:ext cx="7743960" cy="46479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varying student (low income, disability, English proficiency), district (large or small size, price differences) or school needs (size,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can be addressed with pupil weights that indicate degree of additional need, or by categorical program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ke size adjustments but controversia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have geographic price indices, 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1AA1-2019-42BE-8F80-7F7E71B2A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ing Equity with Vertical Equity Adjustments</a:t>
            </a:r>
            <a:endParaRPr b="0" lang="en-US" sz="4400" spc="-1" strike="noStrike">
              <a:solidFill>
                <a:srgbClr val="3333cc"/>
              </a:solidFill>
              <a:latin typeface="Times New Roman"/>
            </a:endParaRPr>
          </a:p>
        </p:txBody>
      </p:sp>
      <p:sp>
        <p:nvSpPr>
          <p:cNvPr id="64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lude state and federal categorical  programs when calculating fiscal neutrality or horizontal equity statistic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state and federal categorical programs but then weight the studen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ctual state weights  O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eights from research (GAO; Odden, Busch and Kucharz, WI research) – 1.9 for disabled, 1.25 for low income and LEP are the common pupil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2FA0-67A4-4FA3-95D3-D57FB22E4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38" name="PlaceHolder 2"/>
          <p:cNvSpPr>
            <a:spLocks noGrp="1"/>
          </p:cNvSpPr>
          <p:nvPr>
            <p:ph/>
          </p:nvPr>
        </p:nvSpPr>
        <p:spPr>
          <a:xfrm>
            <a:off x="6091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 primarily from local (42%) and state (51%) sources, with about 7 % from the federal government</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revenues derive from a variety of state taxes – income both personal and corporate, sales, fees.  </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rarely dedicate any tax or portion thereof to education.  When they do, it is only small amou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8A68-45BB-452F-8EC3-0C96E46A0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to get at funds required to reach adequacy </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dequate” spending level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percent of students </a:t>
            </a:r>
            <a:r>
              <a:rPr b="0" lang="en-US" sz="2400" spc="-1" strike="noStrike">
                <a:solidFill>
                  <a:srgbClr val="f60623"/>
                </a:solidFill>
                <a:latin typeface="Times New Roman"/>
              </a:rPr>
              <a:t>above</a:t>
            </a:r>
            <a:r>
              <a:rPr b="0" lang="en-US" sz="2400" spc="-1" strike="noStrike">
                <a:solidFill>
                  <a:srgbClr val="000000"/>
                </a:solidFill>
                <a:latin typeface="Times New Roman"/>
              </a:rPr>
              <a:t> that level=A</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 McLoone ratio but using the </a:t>
            </a:r>
            <a:r>
              <a:rPr b="0" lang="en-US" sz="2400" spc="-1" strike="noStrike">
                <a:solidFill>
                  <a:srgbClr val="f60623"/>
                </a:solidFill>
                <a:latin typeface="Times New Roman"/>
              </a:rPr>
              <a:t>adequate</a:t>
            </a:r>
            <a:r>
              <a:rPr b="0" lang="en-US" sz="2400" spc="-1" strike="noStrike">
                <a:solidFill>
                  <a:srgbClr val="000000"/>
                </a:solidFill>
                <a:latin typeface="Times New Roman"/>
              </a:rPr>
              <a:t> level rather than the median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by the percent below adequacy level =B</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 B </a:t>
            </a:r>
            <a:endParaRPr b="0" lang="en-US" sz="2400" spc="-1" strike="noStrike">
              <a:solidFill>
                <a:srgbClr val="000000"/>
              </a:solidFill>
              <a:latin typeface="Times New Roman"/>
            </a:endParaRPr>
          </a:p>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e Example on next slid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4E0C-6380-4293-94E3-38EB2B691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0% above adequate level </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is 0.8</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ultiply by percent below adequate </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 x 0.4 = 0.3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d to percent above adequate level</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I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32 + 0.60 = 0.9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evenue increase of 8% to districts below adequacy level would fund adequacy for all districts </a:t>
            </a:r>
            <a:endParaRPr b="0" lang="en-US" sz="2900" spc="-1" strike="noStrike">
              <a:solidFill>
                <a:srgbClr val="000000"/>
              </a:solidFill>
              <a:latin typeface="Times New Roman"/>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7ED8-4918-4DC5-B336-B7DC496A3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152280" y="228240"/>
            <a:ext cx="87631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58"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could argue this is THE school finance research issue toda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urrently, there are many approach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district approach – expenditures where students meet performance targets (IL, OH, K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cost function – research NY, WI, TX, IL, NB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judgment on quality inputs – WY, WI, MD, KY, SC, NY, MS, NB, KS, MT –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generation approaches needed</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based approach – NJ, KY, AR, AZ, WY – and in the future, other possibilities, including W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B28B-6C54-4ADB-8DAA-FD7570F5E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istrict and cost function approaches produce an expenditure number but no information on how the dollars would be used</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judgment and evidence-based approaches provide both an expenditure number and information on how the dollars could be used, or at least how the expenditure number was determ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4EBC-4093-4006-BDEB-A121AD221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800" y="22824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66"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 expenditure and achievement data to identify “successful” districts -- districts that produce desired results</a:t>
            </a:r>
            <a:endParaRPr b="0" lang="en-US" sz="21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liminate “unusual” districts from analysis – very high wealth, very large, very small, very high spending,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om the reduced universe, find districts that actually produce the performance desired, e.g., have &gt;70% of children scoring at or above proficiency on the state test</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lculate a “weighted average” of the expenditures per pupil for these districts, as well as their average SES characteristics -- % minority, % poverty (usually free and reduced price lunch), % ELL,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ume that if these districts can meet a state performance benchmark, other districts could too</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e the calculated expenditure as the expenditure in a foundation school finance formula</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just the calculated expenditure per pupil for the special needs of other districts – small rural, sparse, large urban, et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A5BF-BE1B-494E-BB0B-35F823DB5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914040" y="304560"/>
            <a:ext cx="741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70"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vides a clear link between a $/PUPIL level and a result level</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latively simple and straightforward – policymakers can understand the metho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ws from actual state districts</a:t>
            </a:r>
            <a:endParaRPr b="0" lang="en-US" sz="1900" spc="-1" strike="noStrike">
              <a:solidFill>
                <a:srgbClr val="000000"/>
              </a:solidFill>
              <a:latin typeface="Times New Roman"/>
            </a:endParaRPr>
          </a:p>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o many “atypical” districts excluded from analysi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uccessful districts are usually relatively homogeneous, “urban”/ rural district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are difficult to “adjust” for larger (&gt;2500 students) urban and poorer rural areas, and thus often are hotly deb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can be manipul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so does not identify the educational delivery system</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 not now being used by any state – disadvantages have led to too much controversy</a:t>
            </a:r>
            <a:endParaRPr b="0" lang="en-US" sz="1900" spc="-1" strike="noStrike">
              <a:solidFill>
                <a:srgbClr val="000000"/>
              </a:solidFill>
              <a:latin typeface="Times New Roman"/>
            </a:endParaRPr>
          </a:p>
          <a:p>
            <a:pPr lvl="3" marL="16002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8499-2498-4C86-9EEF-A82BD4E1E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st Function</a:t>
            </a:r>
            <a:endParaRPr b="0" lang="en-US" sz="4400" spc="-1" strike="noStrike">
              <a:solidFill>
                <a:srgbClr val="3333cc"/>
              </a:solidFill>
              <a:latin typeface="Times New Roman"/>
            </a:endParaRPr>
          </a:p>
        </p:txBody>
      </p:sp>
      <p:sp>
        <p:nvSpPr>
          <p:cNvPr id="674" name="PlaceHolder 2"/>
          <p:cNvSpPr>
            <a:spLocks noGrp="1"/>
          </p:cNvSpPr>
          <p:nvPr>
            <p:ph/>
          </p:nvPr>
        </p:nvSpPr>
        <p:spPr>
          <a:xfrm>
            <a:off x="304560" y="1371240"/>
            <a:ext cx="8458200" cy="4343400"/>
          </a:xfrm>
          <a:prstGeom prst="rect">
            <a:avLst/>
          </a:prstGeom>
          <a:noFill/>
          <a:ln w="0">
            <a:noFill/>
          </a:ln>
        </p:spPr>
        <p:txBody>
          <a:bodyPr anchor="t">
            <a:normAutofit fontScale="98000"/>
          </a:bodyPr>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pproach using regression analysis to identify the cost ($/pupil) to produce an outcom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expenditures per pupil, which can be used as the foundation expenditur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variables: characteristics of students and districts (% disabled, % ELL, % poverty, size, sparsity, geographic price indices, performance level desired, etc.)</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xpenditure varies with performance level</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 overall “cost” adjustment to account for district and student needs</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are simple:  an average expenditure and an overall cost adju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1A44-E15D-4EB3-BF24-59516720A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Function</a:t>
            </a:r>
            <a:endParaRPr b="0" lang="en-US" sz="4000" spc="-1" strike="noStrike">
              <a:solidFill>
                <a:srgbClr val="3333cc"/>
              </a:solidFill>
              <a:latin typeface="Times New Roman"/>
            </a:endParaRPr>
          </a:p>
        </p:txBody>
      </p:sp>
      <p:sp>
        <p:nvSpPr>
          <p:cNvPr id="678" name="PlaceHolder 2"/>
          <p:cNvSpPr>
            <a:spLocks noGrp="1"/>
          </p:cNvSpPr>
          <p:nvPr>
            <p:ph/>
          </p:nvPr>
        </p:nvSpPr>
        <p:spPr>
          <a:xfrm>
            <a:off x="609480" y="1218960"/>
            <a:ext cx="8229600" cy="4647960"/>
          </a:xfrm>
          <a:prstGeom prst="rect">
            <a:avLst/>
          </a:prstGeom>
          <a:noFill/>
          <a:ln w="0">
            <a:noFill/>
          </a:ln>
        </p:spPr>
        <p:txBody>
          <a:bodyPr anchor="t">
            <a:normAutofit fontScale="97000"/>
          </a:bodyPr>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links a cost level to a result level</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phisticated</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for most key factors that impact costs</a:t>
            </a:r>
            <a:endParaRPr b="0" lang="en-US" sz="2400" spc="-1" strike="noStrike">
              <a:solidFill>
                <a:srgbClr val="000000"/>
              </a:solidFill>
              <a:latin typeface="Times New Roman"/>
            </a:endParaRPr>
          </a:p>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cated: few policymakers understand or trust the methodology and not used in any state</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cholars question the methodolo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dollar amount but no indication of a delivery strate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ssumes no resource reallocation of existing resources</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e increments for low income/ELL students – 4 +</a:t>
            </a:r>
            <a:endParaRPr b="0" lang="en-US" sz="2400" spc="-1" strike="noStrike">
              <a:solidFill>
                <a:srgbClr val="000000"/>
              </a:solidFill>
              <a:latin typeface="Times New Roman"/>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s the average for Milwauk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4884-70BC-4847-8C5A-530D1E527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PlaceHolder 1"/>
          <p:cNvSpPr>
            <a:spLocks noGrp="1"/>
          </p:cNvSpPr>
          <p:nvPr>
            <p:ph type="title"/>
          </p:nvPr>
        </p:nvSpPr>
        <p:spPr>
          <a:xfrm>
            <a:off x="228600" y="274680"/>
            <a:ext cx="86868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ext Two Approaches get inside the “Black Box” of Schools</a:t>
            </a:r>
            <a:endParaRPr b="0" lang="en-US" sz="4400" spc="-1" strike="noStrike">
              <a:solidFill>
                <a:srgbClr val="3333cc"/>
              </a:solidFill>
              <a:latin typeface="Times New Roman"/>
            </a:endParaRPr>
          </a:p>
        </p:txBody>
      </p:sp>
      <p:sp>
        <p:nvSpPr>
          <p:cNvPr id="682" name="PlaceHolder 2"/>
          <p:cNvSpPr>
            <a:spLocks noGrp="1"/>
          </p:cNvSpPr>
          <p:nvPr>
            <p:ph/>
          </p:nvPr>
        </p:nvSpPr>
        <p:spPr>
          <a:xfrm>
            <a:off x="380520" y="1600200"/>
            <a:ext cx="8458200" cy="4191120"/>
          </a:xfrm>
          <a:prstGeom prst="rect">
            <a:avLst/>
          </a:prstGeom>
          <a:noFill/>
          <a:ln w="0">
            <a:noFill/>
          </a:ln>
        </p:spPr>
        <p:txBody>
          <a:bodyPr anchor="t">
            <a:normAutofit/>
          </a:bodyPr>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the educational delivery strategies that can produce the desired results</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creating detailed specifications of resources needed to support the delivery strategies</a:t>
            </a:r>
            <a:endParaRPr b="0" lang="en-US" sz="22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the school level </a:t>
            </a:r>
            <a:endParaRPr b="0" lang="en-US" sz="2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rototypic designs for each of elementary, middle and high schools</a:t>
            </a:r>
            <a:endParaRPr b="0" lang="en-US" sz="18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the degree possible, the designs must be supported by research and evidence-based best practices that produce improvements in student learning</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ch more detailed specifications and costing than are included in most general education reform recommend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71E5-824C-4F2C-9B12-66130B618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685800" y="5331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86" name="PlaceHolder 2"/>
          <p:cNvSpPr>
            <a:spLocks noGrp="1"/>
          </p:cNvSpPr>
          <p:nvPr>
            <p:ph/>
          </p:nvPr>
        </p:nvSpPr>
        <p:spPr>
          <a:xfrm>
            <a:off x="457200" y="1447920"/>
            <a:ext cx="7848720" cy="4419360"/>
          </a:xfrm>
          <a:prstGeom prst="rect">
            <a:avLst/>
          </a:prstGeom>
          <a:noFill/>
          <a:ln w="0">
            <a:noFill/>
          </a:ln>
        </p:spPr>
        <p:txBody>
          <a:bodyPr anchor="t">
            <a:normAutofit/>
          </a:bodyPr>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ducation professionals make judgments on what is needed at the school level to teach students to proficiency standard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nels of teachers and administrators identify the resource needs for prototypical elementary, middle and high schoo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review and revise the proposals of various local/regional pane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also create prototypical district desig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515A-7A0F-4A4C-9C5B-68A8ED9EE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2" name="PlaceHolder 2"/>
          <p:cNvSpPr>
            <a:spLocks noGrp="1"/>
          </p:cNvSpPr>
          <p:nvPr>
            <p:ph/>
          </p:nvPr>
        </p:nvSpPr>
        <p:spPr>
          <a:xfrm>
            <a:off x="8377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revenues derive largely from local property taxe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roperty taxes are a result of a property tax rate – %, dollars per hundred, mills – levied against a property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l property tax base is assessed value of prop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or yield is the product of the rate times the base – see Chapter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26F7-B2C6-4D2F-A9BB-397425FE5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901800" y="533160"/>
            <a:ext cx="7269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90"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from the expertise of the best educators in the state, and perhaps from around the country</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posals tailored to the state context</a:t>
            </a:r>
            <a:endParaRPr b="0" lang="en-US" sz="2200" spc="-1" strike="noStrike">
              <a:solidFill>
                <a:srgbClr val="000000"/>
              </a:solidFill>
              <a:latin typeface="Times New Roman"/>
            </a:endParaRPr>
          </a:p>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lects just professional judgments, no clear link to student learning gain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somewhat “co-opted” as the word gets out, meaning many proposals are too generou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too many professional judgment panels unable to identify “evidence” or “research” that supports their proposals, which often reflect personal belief or personal philosoph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13EF-0F73-4AA1-9072-389FB3DE1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380520" y="3808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4"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s from research and evidence-based best practices to identify those educational delivery strategies and their resource needs that are linked to student learning gains</a:t>
            </a:r>
            <a:endParaRPr b="0" lang="en-US" sz="20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tempts to “back” each resource recommendation with reference to research and/or best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iven the development of several comprehensive school reforms, can draw from those designs, which themselves often are based on compilations of research-supported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also draw from a synthesis of the best professional judgment pan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speed up” and therefore reduce the cost of conducting an adequacy study</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en-US" sz="2100" spc="-1" strike="noStrike">
                <a:solidFill>
                  <a:srgbClr val="000000"/>
                </a:solidFill>
                <a:latin typeface="Times New Roman"/>
              </a:rPr>
              <a:t>Squares” with the evidence-based practice required by No Child Left Behin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B660-2082-4C3F-B606-2E60D99B8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380520" y="763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8" name="PlaceHolder 2"/>
          <p:cNvSpPr>
            <a:spLocks noGrp="1"/>
          </p:cNvSpPr>
          <p:nvPr>
            <p:ph/>
          </p:nvPr>
        </p:nvSpPr>
        <p:spPr>
          <a:xfrm>
            <a:off x="533520" y="1219320"/>
            <a:ext cx="8153280" cy="487656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a detailed staffing for prototypic schools to address all key educational issues, with all proposals having a research and/or best practices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s from previous research and adequacy studies already conducted around the country – each element has an “evidence” rational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educator predilection to make proposals on individual philosophy rather than engage in “evidence-based” practic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simonious but robust – a “Ford” – not a “Cadillac” – not a “Yugo”</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ly, additional costs are less than other approaches</a:t>
            </a:r>
            <a:endParaRPr b="0" lang="en-US" sz="18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chool elements have a research base, or a strong research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not “stand alone”: needs a state panel of leading educators and policymakers to review and tailor to any particular state contex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 to link all recommendations combined  to a specific performanc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0177-B2C6-4067-9A1B-EF3AC06EE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1" name="PlaceHolder 1"/>
          <p:cNvSpPr>
            <a:spLocks noGrp="1"/>
          </p:cNvSpPr>
          <p:nvPr>
            <p:ph type="title"/>
          </p:nvPr>
        </p:nvSpPr>
        <p:spPr>
          <a:xfrm>
            <a:off x="151920" y="274320"/>
            <a:ext cx="8915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utcome of Latter Two Approaches</a:t>
            </a:r>
            <a:endParaRPr b="0" lang="en-US" sz="4000" spc="-1" strike="noStrike">
              <a:solidFill>
                <a:srgbClr val="3333cc"/>
              </a:solidFill>
              <a:latin typeface="Times New Roman"/>
            </a:endParaRPr>
          </a:p>
        </p:txBody>
      </p:sp>
      <p:sp>
        <p:nvSpPr>
          <p:cNvPr id="702" name="PlaceHolder 2"/>
          <p:cNvSpPr>
            <a:spLocks noGrp="1"/>
          </p:cNvSpPr>
          <p:nvPr>
            <p:ph/>
          </p:nvPr>
        </p:nvSpPr>
        <p:spPr>
          <a:xfrm>
            <a:off x="761760" y="1447920"/>
            <a:ext cx="7848360" cy="441936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typical school designs &amp; staffing need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ar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 or Intermediate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cost per pupil of each prototype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of the student, district and price adjustments neede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resources adequate to enable schools/districts to determine most powerful educational strate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94BA-2B56-4D83-BDE5-AC012B4DF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onents of Prototypical Elementary, Middle, and High Schools</a:t>
            </a:r>
            <a:endParaRPr b="0" lang="en-US" sz="4000" spc="-1" strike="noStrike">
              <a:solidFill>
                <a:srgbClr val="3333cc"/>
              </a:solidFill>
              <a:latin typeface="Times New Roman"/>
            </a:endParaRPr>
          </a:p>
        </p:txBody>
      </p:sp>
      <p:sp>
        <p:nvSpPr>
          <p:cNvPr id="706" name="PlaceHolder 2"/>
          <p:cNvSpPr>
            <a:spLocks noGrp="1"/>
          </p:cNvSpPr>
          <p:nvPr>
            <p:ph/>
          </p:nvPr>
        </p:nvSpPr>
        <p:spPr>
          <a:xfrm>
            <a:off x="1117080" y="1980720"/>
            <a:ext cx="7340760" cy="4087800"/>
          </a:xfrm>
          <a:prstGeom prst="rect">
            <a:avLst/>
          </a:prstGeom>
          <a:noFill/>
          <a:ln w="0">
            <a:noFill/>
          </a:ln>
        </p:spPr>
        <p:txBody>
          <a:bodyPr anchor="t">
            <a:normAutofit fontScale="96000"/>
          </a:bodyPr>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instruction – class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 instruction/planning &amp; prep</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materials, textbooks, library books</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for struggling students – disabled, low income, ESL, GATE – such resources will vary by incidence of such students in each school – tutoring, ELL, extended day, summer school</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AA7-C0A4-44ED-AB5F-B68C610E6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Key School Components …</a:t>
            </a:r>
            <a:endParaRPr b="0" lang="en-US" sz="4000" spc="-1" strike="noStrike">
              <a:solidFill>
                <a:srgbClr val="3333cc"/>
              </a:solidFill>
              <a:latin typeface="Times New Roman"/>
            </a:endParaRPr>
          </a:p>
        </p:txBody>
      </p:sp>
      <p:sp>
        <p:nvSpPr>
          <p:cNvPr id="710"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chnology – school computers &amp; software including upgrading and maintenance cost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udent activiti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retaria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s and maintenance</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od services</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U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trict design</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eschoo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ew Performance Pay Structure and salary lev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justments for all prototypic designs for schools with more and fewer students, and with greater and lesser poverty, so each design is tailored to size and demographics of each schoo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1137-90F8-4D8A-A111-3AF867DA8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60948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6" name="PlaceHolder 2"/>
          <p:cNvSpPr>
            <a:spLocks noGrp="1"/>
          </p:cNvSpPr>
          <p:nvPr>
            <p:ph/>
          </p:nvPr>
        </p:nvSpPr>
        <p:spPr>
          <a:xfrm>
            <a:off x="762120" y="1676520"/>
            <a:ext cx="774360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ssessed value is only a percent of market value – in Wisconsin, it is supposed to be market valu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local assessments vary in their ability to identify the precise value, states often adjust local evaluations to a common base, using assessment-sales ratio studies, and use the “equalized” valuation in the school aid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AC72-C3F2-48E1-9CE9-334002429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39C8-8C5A-4D5D-BD3A-77E4DA5B9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4" name="PlaceHolder 2"/>
          <p:cNvSpPr>
            <a:spLocks noGrp="1"/>
          </p:cNvSpPr>
          <p:nvPr>
            <p:ph/>
          </p:nvPr>
        </p:nvSpPr>
        <p:spPr>
          <a:xfrm>
            <a:off x="457200" y="1371600"/>
            <a:ext cx="7772400" cy="51055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s are divided into total, which includes capital, and operating, which excludes capital (buildings, buses, computer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ducational” expenditures are generally instruction, instructional support, and administration, and exclude transportation, operations and maintenance, foo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2C57-BE32-4AB2-9DB4-07A5E43A3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533160" y="609480"/>
            <a:ext cx="7924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8" name="PlaceHolder 2"/>
          <p:cNvSpPr>
            <a:spLocks noGrp="1"/>
          </p:cNvSpPr>
          <p:nvPr>
            <p:ph/>
          </p:nvPr>
        </p:nvSpPr>
        <p:spPr>
          <a:xfrm>
            <a:off x="533520" y="1447920"/>
            <a:ext cx="7743600" cy="487656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operating expenditures are reported by:</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salaries, benefits,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instruction, instructional support, administration, operation and maintenance, transportation, food, debt service,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DF2C-7584-4633-A9CB-7B5716C5D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Public School Expenditures</a:t>
            </a:r>
            <a:endParaRPr b="0" lang="en-US" sz="4800" spc="-1" strike="noStrike">
              <a:solidFill>
                <a:srgbClr val="3333cc"/>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to report expenditures by numbers, types and deployment of professionals – core academic teachers, instructional facilitators/mentors, non-core teachers (art, music, pe, library), tutors, resource room teachers, inclusion teachers, counselors, instructional aides – and how deploy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48:43Z</dcterms:modified>
  <cp:revision>50</cp:revision>
  <dc:subject/>
  <dc:title>No Slide Title</dc:title>
</cp:coreProperties>
</file>